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35C9-1535-40DA-9C2B-3487F023B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yvG3TZ6S68" TargetMode="External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iyvG3TZ6S68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yperlinked to the clip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B39B-DC50-4C12-AEBB-72B328C52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806-FDB9-4EF9-A3B8-F9F4F88C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21C-D7FF-4E36-A677-8E1E38A6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15E-8CAB-4C89-BB81-E8AB18FE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2A0F-7779-4C49-BAE4-814FF57C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055-1A76-4A1E-AC5C-DA140564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9EE0-BC1E-4A13-A9F9-C8BD2AE4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0644-E0F3-406A-ACB8-FDB596F7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6CB-261E-487D-ADFD-1903E174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922-A0F5-4FD2-ADED-FE5EEB47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5E8A-1E70-414C-A37A-07582AD5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82EA-31B1-4873-A47D-C53E8DDB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D14-4A9E-4C61-BDA8-1F177946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4A98-2106-4CA1-8140-9ADA925C1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youtube.com/watch?v=iyvG3TZ6S68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11&amp;12: Proportional Reasoning </a:t>
            </a:r>
            <a:br>
              <a:rPr sz="3200"/>
            </a:b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Building to More Complex Relationships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rley Dalry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isa Suurt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 Tim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Matching Expectations to Big Idea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23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one of the sets of expectations that you are familiar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as a team to determine which Big Idea each expectation connects to (try to narrow it down to 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each expectation on the chart paper with the Big Idea you connected i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"/>
          <p:cNvSpPr/>
          <p:nvPr/>
        </p:nvSpPr>
        <p:spPr>
          <a:xfrm>
            <a:off x="457200" y="4800600"/>
            <a:ext cx="1447920" cy="144792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EL 3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BF 3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4"/>
          <p:cNvSpPr/>
          <p:nvPr/>
        </p:nvSpPr>
        <p:spPr>
          <a:xfrm>
            <a:off x="1981080" y="5257800"/>
            <a:ext cx="1524240" cy="152388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EL 4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AP 4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3657600" y="4648320"/>
            <a:ext cx="1523880" cy="152388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CT 4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HF 4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>
            <a:off x="5410080" y="5029200"/>
            <a:ext cx="1600200" cy="160020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CV 4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DM 4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"/>
          <p:cNvSpPr/>
          <p:nvPr/>
        </p:nvSpPr>
        <p:spPr>
          <a:xfrm>
            <a:off x="7086600" y="4724280"/>
            <a:ext cx="1523880" cy="152424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CR 3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CF 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79" name="Picture 6" descr="View Details"/>
          <p:cNvPicPr/>
          <p:nvPr/>
        </p:nvPicPr>
        <p:blipFill>
          <a:blip r:embed="rId1"/>
          <a:stretch/>
        </p:blipFill>
        <p:spPr>
          <a:xfrm>
            <a:off x="5791320" y="25146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457200" y="2057400"/>
            <a:ext cx="5334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few minutes to walk around and look at the expectations under each Big Idea and consider whether you agree or disagree with their pla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houghts…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475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4720" indent="-50472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some Big Ideas easier to match to than others?  Which 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720" indent="-50472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ome courses seem to have more proportional reasoning than others?  Which 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720" indent="-50472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re anything that stood out for you during this ac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Documents and Settings\suurtal\Local Settings\Temporary Internet Files\Content.IE5\OAZ122F2\MC900445118[1].wmf"/>
          <p:cNvPicPr/>
          <p:nvPr/>
        </p:nvPicPr>
        <p:blipFill>
          <a:blip r:embed="rId1"/>
          <a:stretch/>
        </p:blipFill>
        <p:spPr>
          <a:xfrm>
            <a:off x="8001000" y="5294160"/>
            <a:ext cx="53352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Inside/Outside Circl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response to the following with your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e value of focussing on the same Big Ideas in proportional reasoning from   K – 12 might be that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suurtal\Local Settings\Temporary Internet Files\Content.IE5\NIYPG7VX\MC900441990[1].wmf"/>
          <p:cNvPicPr/>
          <p:nvPr/>
        </p:nvPicPr>
        <p:blipFill>
          <a:blip r:embed="rId1"/>
          <a:stretch/>
        </p:blipFill>
        <p:spPr>
          <a:xfrm>
            <a:off x="7010280" y="4952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Inside/Outside Circl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response to the following with your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ny “aha” moments you ha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C:\Documents and Settings\suurtal\Local Settings\Temporary Internet Files\Content.IE5\NIYPG7VX\MC900441990[1].wmf"/>
          <p:cNvPicPr/>
          <p:nvPr/>
        </p:nvPicPr>
        <p:blipFill>
          <a:blip r:embed="rId1"/>
          <a:stretch/>
        </p:blipFill>
        <p:spPr>
          <a:xfrm>
            <a:off x="7010280" y="4952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Inside/Outside Circl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response to the following with your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here any ideas presented today that challenged your thinking?  If so,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C:\Documents and Settings\suurtal\Local Settings\Temporary Internet Files\Content.IE5\NIYPG7VX\MC900441990[1].wmf"/>
          <p:cNvPicPr/>
          <p:nvPr/>
        </p:nvPicPr>
        <p:blipFill>
          <a:blip r:embed="rId1"/>
          <a:stretch/>
        </p:blipFill>
        <p:spPr>
          <a:xfrm>
            <a:off x="7010280" y="4952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Revisiting 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533520" y="1905120"/>
            <a:ext cx="777240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plore the Big Ideas of Proportional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ke connections between course expectations to the Big Ideas of Proportional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matching problems involving proportional reasoning to the Bi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ters from Camppp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http://www.cartoonstock.com/lowres/dro0413l.jpg"/>
          <p:cNvPicPr/>
          <p:nvPr/>
        </p:nvPicPr>
        <p:blipFill>
          <a:blip r:embed="rId1"/>
          <a:stretch/>
        </p:blipFill>
        <p:spPr>
          <a:xfrm>
            <a:off x="4876920" y="1523880"/>
            <a:ext cx="3779640" cy="5026320"/>
          </a:xfrm>
          <a:prstGeom prst="rect">
            <a:avLst/>
          </a:prstGeom>
          <a:ln w="0">
            <a:noFill/>
          </a:ln>
        </p:spPr>
      </p:pic>
      <p:sp>
        <p:nvSpPr>
          <p:cNvPr id="98" name="Content Placeholder 2"/>
          <p:cNvSpPr/>
          <p:nvPr/>
        </p:nvSpPr>
        <p:spPr>
          <a:xfrm>
            <a:off x="380880" y="1371600"/>
            <a:ext cx="37339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oncept: camping clip ar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438280"/>
            <a:ext cx="1904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15328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 Table Introdu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, Board, Role, one goal for CAMPPP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4" name="Picture 5" descr="http://www.offthemarkcartoons.com/cartoons/2004-10-08.gif"/>
          <p:cNvPicPr/>
          <p:nvPr/>
        </p:nvPicPr>
        <p:blipFill>
          <a:blip r:embed="rId1"/>
          <a:stretch/>
        </p:blipFill>
        <p:spPr>
          <a:xfrm>
            <a:off x="5638680" y="2819520"/>
            <a:ext cx="289584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Beach Bal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828440"/>
            <a:ext cx="57913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spcAft>
                <a:spcPts val="1800"/>
              </a:spcAft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n small groups, pass the beach ball to each other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spcAft>
                <a:spcPts val="1800"/>
              </a:spcAft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hen you catch the beach ball, answer the question that is closest to your left thumb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7" name="Picture 2" descr="balls,beach balls,leisure,recreation"/>
          <p:cNvPicPr/>
          <p:nvPr/>
        </p:nvPicPr>
        <p:blipFill>
          <a:blip r:embed="rId1"/>
          <a:stretch/>
        </p:blipFill>
        <p:spPr>
          <a:xfrm>
            <a:off x="6705720" y="4343400"/>
            <a:ext cx="2104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685800" y="1676520"/>
            <a:ext cx="80010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533520" y="1905120"/>
            <a:ext cx="777240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plore the Big Ideas of Proportional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ke connections between course expectations to the Big Ideas of Proportional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matching problems involving proportional reasoning to the Bi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Big Picture for the Wee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1981080"/>
          <a:ext cx="8534160" cy="4200480"/>
        </p:xfrm>
        <a:graphic>
          <a:graphicData uri="http://schemas.openxmlformats.org/drawingml/2006/table">
            <a:tbl>
              <a:tblPr/>
              <a:tblGrid>
                <a:gridCol w="1600200"/>
                <a:gridCol w="1676160"/>
                <a:gridCol w="1844640"/>
                <a:gridCol w="1812960"/>
                <a:gridCol w="1600200"/>
              </a:tblGrid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ing Big Ideas for Proportional Reaso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ng them to the curricu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good consolidation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5920" indent="-115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5920" indent="-1159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 learning goals connected to Big Ideas and curricu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parallel questions, corresponding common questions and scaffolding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5920" indent="-115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5920" indent="-1159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ed conversations with critical fri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4600" indent="-174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open questions and corresponding  scaffolding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ed conversations with critical fri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4600" indent="-17460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ousel to share our work and explore other grou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here is proportional reasoning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65" name="Diagram 3" descr=""/>
          <p:cNvPicPr/>
          <p:nvPr/>
        </p:nvPicPr>
        <p:blipFill>
          <a:blip r:embed="rId1"/>
          <a:stretch/>
        </p:blipFill>
        <p:spPr>
          <a:xfrm>
            <a:off x="176040" y="1566720"/>
            <a:ext cx="87552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’s do some math…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one of the problems on the page and complet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you have completed the problem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5760" indent="-342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at ways did you, or could you have, used proportional reasoning when solving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5760" indent="-342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big idea(s) might be addressed with the problem you ch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tanding conversations…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160" y="1904760"/>
            <a:ext cx="6172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8640" indent="-26460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someone in the room who completed the same problem a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8640" indent="-26460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onversation about what proportional reasoning was involved and which big idea(s) you think the problem might connect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http://www.clker.com/cliparts/5/b/9/8/1194984513646717809chat_icon_01.svg.hi.png"/>
          <p:cNvPicPr/>
          <p:nvPr/>
        </p:nvPicPr>
        <p:blipFill>
          <a:blip r:embed="rId1"/>
          <a:stretch/>
        </p:blipFill>
        <p:spPr>
          <a:xfrm>
            <a:off x="6400800" y="4114800"/>
            <a:ext cx="254952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7T12:59:04Z</dcterms:created>
  <dc:creator>Liisa Suurtamm</dc:creator>
  <dc:description/>
  <dc:language>en-US</dc:language>
  <cp:lastModifiedBy>Liisa Suurtamm</cp:lastModifiedBy>
  <dcterms:modified xsi:type="dcterms:W3CDTF">2010-08-16T20:54:56Z</dcterms:modified>
  <cp:revision>55</cp:revision>
  <dc:subject/>
  <dc:title>Slide 1</dc:title>
</cp:coreProperties>
</file>